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91D6-06B4-4FA6-BD27-345212E95A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newint.org/features/2012/09/18/illegal-drugs-facts-infographic/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other option is to use the website link with an option to zoom in and out: </a:t>
            </a: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ewint.org/features/2012/09/18/illegal-drugs-facts-infographic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159F-E0CF-4C6D-92C0-41893C3D88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D3F77-6680-4F65-B75B-9F386A32AA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17C-8226-4CD2-A4E7-06A9E8F7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23D1-9E66-403B-B0DE-DD0EA272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C57B-FECE-4E12-9C63-736D73A9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483A-2EF3-45DA-9071-6A9AF05E1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D80-9F37-455A-824B-E52D0213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7C37-50A6-4C4B-9971-F06664FE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D377-1116-4245-BE92-EA66FD8B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DDD-751D-4B30-922F-F12564A0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8F65-E279-4DCB-8B29-68DBA571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7A61-DCEA-4B66-BCC5-150293E9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B9D9-AC63-407E-88B2-9F8AD524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86F1-496B-4352-822F-29A17F12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1CC3-F5B2-4E22-A7EB-8C0DB0D0E9A8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-6480" y="201600"/>
            <a:ext cx="9242640" cy="1150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ow much does a kilo of heroin cost on a UK street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ow much does the farmer get for a kilo of opium poppies (used to make the heroin)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Did the number of cannabis and cocaine users in the world rise or fall between 1998 and 2008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What percentage of US teenagers use cannabi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Do more people die per year from drugs, alcohol or tobacco? What is the percentage difference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What are the 5 most popular drugs in the world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(check your answers on the next slide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85720" indent="-46296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7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1" name="Content Placeholder 3" descr="drugs info.jpg"/>
          <p:cNvPicPr/>
          <p:nvPr/>
        </p:nvPicPr>
        <p:blipFill>
          <a:blip r:embed="rId1"/>
          <a:stretch/>
        </p:blipFill>
        <p:spPr>
          <a:xfrm>
            <a:off x="47520" y="168120"/>
            <a:ext cx="90964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475920"/>
            <a:ext cx="77612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Now read this to find out more about world drug use and argument for legalizing or decriminalizing drug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Make_drugs_leg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284720" y="3807000"/>
            <a:ext cx="389736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19:08:39Z</dcterms:created>
  <dc:creator>Mix</dc:creator>
  <dc:description/>
  <dc:language>en-US</dc:language>
  <cp:lastModifiedBy>Linda Ruas</cp:lastModifiedBy>
  <dcterms:modified xsi:type="dcterms:W3CDTF">2014-05-26T20:48:19Z</dcterms:modified>
  <cp:revision>22</cp:revision>
  <dc:subject/>
  <dc:title>DRUGS</dc:title>
</cp:coreProperties>
</file>